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1F7-BABA-463D-8CC3-29B5125D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6C9-7702-4003-864A-043AF64C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010AC-D363-47B7-9F48-315363B3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7D158-85ED-4074-8821-AEF93FD8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9FB7-9783-413B-B069-E3F890CC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2F97F-89A7-46C5-BCAB-BB56784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61059-C76A-49E3-810E-7D77F0B2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AC5D8-1971-42B7-9ECB-FDF5B1D6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DD25E-1708-43FB-A7B1-8EE7A66D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C8064-469F-4F15-B16A-70F35021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25163-EDD2-4C25-9C9B-65E5FC9F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02F74-7FF2-4224-81B7-7FF8CF76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6A1-DBEB-4A55-AE47-FC888FE5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4FAA4-F977-4486-BA2B-57C50AF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1FA64-D38A-432F-AB01-1DD0CD95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77C4D-8EF9-49C8-BD85-EDB7DD0A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26A9B-A5A8-404B-BE03-052047EC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775E5-193F-45A0-80F1-E707036A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01C9A-4E99-423D-B0B8-A3042A8A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15FAE-745E-4EFD-A585-50C907E6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C1CA6-6010-4FD3-AE41-61EB700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EA816-C665-4BD8-9BDC-7E2D5ED1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997E4-B96B-42A6-9C7A-C59EF810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25A-9FCE-422C-A8AF-F3DF83F1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EF690-01A7-4C74-8CDF-F2FFB1C5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7E49B-D9EB-4A1B-A097-5EB9064A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736C3-8024-4ED0-A40B-6E1E54EC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BA2F3-0658-4A3E-A21C-F5D58E2C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6D244-6571-4B33-9B89-E5E48EBB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E7988-9027-4E27-B451-6BC658BA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913E4-5ED1-4160-AE83-C02AC3C4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E0929-C5AB-4935-A18A-0AD47B41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6544A-E06D-4848-B019-8C2716FF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AA415-2044-4C4C-8876-CE870064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700D-E6FD-4BC8-925D-B968E611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BF50D-ABD2-4D32-B452-8D3564E2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7A0CA-0FD2-4B18-B86F-B2FEF179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73850-DB3E-4B3F-939E-FC6FBE4D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309A7-D4BB-418D-B677-3048CD20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875B8-049A-4929-981C-1A8CCC9A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D373D-85EF-42EF-800C-A333435A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54DB7-5D17-4A10-8E81-1B71F6DB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7F29F-EDA8-4AC3-A471-2B58DD2F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FB0F0-F7D0-458A-A4CD-7B4F8E98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207AD-26D9-4FC1-8E81-3E9334B0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C65C-2022-40D6-AC5C-E13202BB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B10B0-D5C5-436D-8F4D-19DF9859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1B9F6-06B5-440A-8008-20907F9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C6347-2400-4397-A7F4-F2B2EF9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5CD8A-DB69-4443-BB70-D17D2902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7A5BE-B837-49C2-94F0-496FA6F0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02318-4D7E-4C32-9AE9-CDF21868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B9EC8-40D2-4EC5-A163-7AB43D86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C2544-93D8-4780-A2E2-FFA6FBE6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F61B2-6CA7-4C4D-B037-7A2283AC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67409-6529-4131-87E3-493B7D44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0EB0-A061-422E-A248-3557944C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FEBE8-1744-4812-AB02-9AC6FA32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2E5BF-BA1C-4765-87C2-139BAB74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AD735-4B02-4ED7-A0FD-8EE91CE5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00D30-C4CA-445F-B9EA-CD9F01B1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AA7EB-C880-4C38-ACE7-43E25A87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1C1BE-0003-47E0-A92F-503CEF77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57F6A-DF98-4318-AC3E-96E51851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5FDC7-C365-4078-8510-B67B633A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2EAC1-D6FB-486D-9E69-7CC130D2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3398A-0590-41AF-8C39-2F6C983A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759C-A159-485B-A7AF-1850102A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9547D-724F-4039-BD28-10D7E4BF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3FAC2-E29E-472B-A4F5-490C78A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6A8F7-BE32-43CD-A3E4-A8576FC8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34C82-B4EB-4EB1-9074-A2C3BEDE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2AAE1-2D86-4C94-B761-7CAA841B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1686B-7470-4A51-B0FB-D7D02294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E020F-2BBF-4EC3-B302-AAAE7085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122CD-5A91-41A1-975F-CE1E5E67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8BFFB-8170-4F22-B26A-05CE828E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6E0BC-5E79-425A-BC81-2904B9FF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2558-3427-4640-A8DC-91F5D9B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A4579-DF69-4844-AE52-AC53269C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FCDA9-96C9-48D1-B995-6EEB52E9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F85BD-0BCD-4F37-BF44-A045C435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8B2A6-F4C5-45F4-9662-70E7730E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E4F91-3DF1-4F99-8B15-96E093DD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4D59C-AA03-4D87-9B31-F5895F44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2229C-AEBF-4124-B3B4-AEA2703A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A1774-B235-4965-B033-4D667A5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11B17-83D1-4554-A1B5-92C96144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DCA3D-F1BC-46F2-B0C9-E1F436F3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AFB6-B5E9-4B6D-9074-E4A20DD4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0065D-0DE3-496D-B7E0-3672EEBD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41C0E-2243-4898-BD77-A489F55F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7EF6C-673E-438F-A21D-F6B6FD29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FFAF1-8C78-470B-8143-7D184EBE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FFCC3-0526-44F3-8867-F6C492E3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7AD4C-D850-4C78-A649-1135F465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3105B-EDAC-4BF5-A34E-4B09F43D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425B9-54E1-4D1D-AC89-0571349D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E1D8A-8395-4962-8809-BCDB02D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90A57-C346-4386-B5AF-6BE4DCE9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B610-EF81-4931-ACBB-88D5DFAA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C46E3-3ED5-42B3-9EA7-98F40D43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CFE6E-FB68-4FAF-8447-CC0A4375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57A33-EDA7-4F66-997D-231EAC31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1ABE0-A4DC-4001-8E46-597664F6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2266F-099F-4DA2-9DD4-0EA584A4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A04F7-81C6-41A3-BCC0-4D14BD87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67B4D-4C23-43DB-A235-3C80AC29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B4126-D79E-4E7A-81A1-A90FA823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EA6B4-7618-4DAA-8861-ED465530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EEC18-0653-49BF-9CB2-E1DFA129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9B6-910A-4A92-9FAF-58F69B4E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CE9F-455A-4A01-AF25-A0601C0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9D74B-3049-4B82-B67A-7C9B62C1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A0130-9886-42BF-89D1-58AD74F2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29FB3-D905-448B-9CB6-80F3BFD7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B63B44-47CD-4B49-8389-CAD3743D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7DB24-34D4-4668-A3C1-840041B2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7EC0D2-CF77-4EBF-9D00-3C9BF9AD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A3821-1496-455A-8475-3DA8352E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9E73B-398B-4D95-8406-B2A1D306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92B08-D86F-4B89-AB85-6D1B411F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C68F1-B2E5-48A0-9C2F-F5DFCB61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C38E-18F4-471A-BF76-C74FF27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62E27-C83E-4791-A010-A4DFBA43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CA234B-2BAF-453B-82DF-BBDD142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496C3-4BFB-4717-80AF-FE9B1B69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E7C52-9437-44E6-8206-2C181458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C41B6-2CC7-40CF-BEBF-F9178A67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32F5A-4436-4A79-9E2D-C516C811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0BBFB9-FD60-453E-B4C7-B106B3F6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CCCE9-4DE3-4072-B981-0D36E470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48384-62C8-4C97-B3A1-3C171B39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D86E3-9EC7-4CE9-8845-18C50AFC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DBDF-078E-4A95-BDBD-9B34C670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B9465C-53D3-4304-9E5B-1ED5886B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79041-31E4-49C0-A059-27FA7FC7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C211A-4F59-4DCC-B044-A8925103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BA2A0-015F-43BF-8D70-6E41337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CF28F-C406-4CF0-9103-C7A97F78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BC5C21-AC8B-481E-BC4F-3458EECF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0F92B3-9F83-4CBF-8BFB-193E141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0669E1-EED4-4C20-AC18-E01D481D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42FBB8-E0F2-4836-B648-4957A674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798FD-9C96-4161-89C0-819715F0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D65E-2570-43CC-9155-7D964989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CC1A9-D0E1-4D4D-9A39-5BA15CCA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5FDDA-17EF-4FC7-9D10-8345704E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AACFB-2288-4E4F-A2D2-70AE958F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2A848-F5A1-4A47-BDC3-778EF2FD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DFD65-9AC3-4794-BFA2-DB993987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F58EC9-0802-4560-AB13-2CF4458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8A307-10AA-4DE4-9BA0-C5FA5FEE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77CD5D-94FE-4975-AAC9-D484A69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FE91DB-2966-416C-98F7-EE607696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9D4FB-6934-4BAB-BCC3-C5BD4C2C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6DDD-F943-4D3F-9BE4-2F4391F7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E91CA-BEB3-4E7B-A372-6EFA08DE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DD68F3-1424-4F29-A964-827859FD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AB570C-1A14-44BB-839E-8473B78C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B5D0A1-164D-4561-886B-146CFF6A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60828D-696F-41CB-BE1D-7070D59B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529CDC-C651-4417-AD42-3873AF3E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57F4C-10C7-4E07-B55D-D43036EC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B08339-C514-4C92-9BB3-5DF6CF97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B51FC-6006-4094-B64A-735C382F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9BC72-1B32-40E9-93E9-D68080FB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D01A-DDD2-4CB9-A3DB-E6FC6CB2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6B5634-03CA-467F-88A5-BF703446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A1F76-129A-43DA-B9D2-359E7E16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FE25D4-557F-49CF-AF3C-C6A5A967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16FC36-BC2C-41F4-A19B-AC2935B4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54D18A-679E-4489-94E4-E904C7E4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1FC55-249F-4B5F-8D6F-76F0A501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C26DB0-E865-4893-9320-C6E0A285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20D990-DBC9-4BAF-A884-8A8512D3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61085D-C1E2-492C-9D46-FA17690F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4CDACE-55E3-4020-B114-F5A95BCA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B1F3-7C74-48D0-B37B-E98825B9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B2C640-0492-4F01-A260-6DA6A6D1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ACF916-7480-4365-B9C1-F87681B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A5C9D6-652E-4551-B8A3-8C7001E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A2A3C3-A3D8-49CC-9544-D0673570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16B1D8-2928-4A42-85D1-D8CEE792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9A5186-1062-4D59-9BBD-15FE3119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76B928-DD02-4D2A-818A-1DF90845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227C4B-9B47-4A47-BDC6-9751067F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16EEA8-575E-492E-9AF2-26448BF7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2A563D-A5D1-4031-AC00-0F809467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C61A-7664-4FE4-A0CB-F23FBDD6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996751-EFF0-43FD-B9A1-268E4D1F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432D6E-AAB9-4193-8425-693CF80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0F3E9-48B6-4C07-B5A0-2F1D1A81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9C2624-9DAC-4B26-9097-28CEC2A3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372D73-B90E-4965-8AB7-75A2D80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C62F58-ABDE-4C8F-A7F7-9F1CA2B0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8AF9C-6339-452C-AE3B-D235F23A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41C284-FDB5-45E1-B98D-2FD366F8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86D72F-EAE3-4FB7-A5D2-D5E8FE5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07A25A-2E46-4AFF-8CEA-BF57E8C2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D44A-8EAC-4473-A6C9-4DDBD784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C71033-6224-4CD1-AC34-E219B6E5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D785F0-0496-455F-93FF-E1674886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AF55C9-0BCC-4300-9F49-FCB2F0B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2565A8-6C2F-40FA-B3B5-4E0EBECF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D1D02B-EFF6-424D-BFFE-49801EF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3C2C24-5494-4361-A5BE-3B890DF5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106746-B9F2-489E-936C-143106E4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027AE4-CD3E-4054-9489-C25CB983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B9C12C-353A-4A1F-B536-3FBEB4BA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8F2AEA-B8FB-4AD2-A952-25E0C799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E85EC-2AD8-4E0E-9F7C-2F661BFD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9E9461-9004-42B3-B9D6-749A107B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615CDF-F5DE-4749-BF2A-321D9D3B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078BAC-39F0-42A1-A373-BABA69D2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C2DBCF-2F6A-4C59-8082-0B6C6F0E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0D42FD-4EFD-4BB9-863E-82C436E6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C6B22D-0440-4A5E-BD42-EAD51994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BFEA75-C696-4C22-83BA-B60272D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C05978-068A-4285-8B72-5E489AD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12722A-E61B-4FED-A981-A2C9EC2A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81A0C4-7487-438E-A085-B352035E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F38-7332-4CDC-AA0F-F09E5E31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EC5F-9B83-43E2-8B04-948B2862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093917-8F8C-42D8-A970-353FF8AA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8E7F8B-FDEC-47D8-A51F-5379044F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14CF16-087F-4ED6-BE7E-8633C797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944CCA-97C8-4A93-94BD-8EEC3091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4542B7-294D-4807-A134-DAD17A40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0DDEB3-B3B8-4AAB-8A13-26797F9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BF6650-4DDA-40B3-9E27-7526D14F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191594-B096-40A9-BF01-BD77BC4A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A7EDCB-6E4D-4BA9-A37A-B4B5776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1AB068-3327-4CDE-AC31-BEF243B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276A-6FB9-4464-BB58-1FD5127F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7D5933-2D52-4C65-907B-6D9C5605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2204C6-92BA-4F7A-B313-4B39600B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798355-E3D4-4D85-850A-D82EB06A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5061B2-DAB8-4049-A3D0-57602D0C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37D123-5B24-4E75-896D-05DAE42F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4E9A75-6715-4966-B254-BED936CA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80BFE9-A1D4-4D40-AF45-B175F631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C386F0-3821-45E4-92A8-37C6D266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25BEC4-C043-4A41-B0C0-7E436A44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B8B2E0-9696-475E-A691-A08CCE66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20E5-E163-4D31-9E7D-6C7FE22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3CE1F8-C40F-43FD-8307-D7C73FE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9C90BE-B82D-4BB5-B7E7-CA657F71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D0AD40-724F-44B3-B8EE-27BDBB49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C1907A-AA5C-4AA2-AE37-E8A637C0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AC0410-B0D9-4999-80F6-B7E1231B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FB0954-3CFC-4B6B-9989-7B023C68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208E8B-9765-4DA5-A9A1-9575E62E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C4BE28-BA51-42D3-9624-C19546D9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F53567-B82E-494B-ADBF-61DEBDB8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C3CCB9-4EBF-4B81-87AE-E3BE5BB7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0FB8-1637-4C55-AC36-490D977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0287C7-1DB1-40D3-B60B-226525B0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60CE45-D0BA-4057-8DB6-F248B111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7E795C-4403-44B5-9670-A842F6B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0B652B-5DB3-41B5-9025-B9D28A01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CBFFB7-1C55-44B4-B235-5908B4FE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8645E6-91C5-49EA-8A8E-AACE2606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044657-3A04-4C98-ACFE-C16F650E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AB0E7B-0C43-4B9F-BA3C-852BE70D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09264F-973C-4CD6-B48C-775EF449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ED871F-B4A2-4ADC-95E2-B62AE742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9151-D5D1-4D79-BACF-75CCC2E3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4DC2C7-94CD-4E6F-A80A-48F37150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201583-9A46-48F0-A4C8-ADA4457B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400FD6-CA8B-4EF5-96CF-1678B4DE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FC86C3-BA22-483D-9EBE-57C2BA91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6310E6-A023-4D45-BAEC-B429CA73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8A60B9-F7E9-4F98-9368-57705A5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CD986C-1B45-4F10-9670-A482DC4E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BA218C-536E-49D8-ADA7-B40357B9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FEBDB7-1867-4B6E-AD3F-5B3E3939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F7719E-C119-4285-9E0B-6E9EA419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C0E2-D502-48BE-9131-9733DBD2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0E2D15-4EF8-47C9-B23E-BB7EDBC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2E816A-C937-4530-BDFA-74416210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0A5C45-8F74-4BE8-8F13-1A0BABF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7B7677-E529-45C0-9895-B4EFAE4B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87C9BC-823C-42F9-8068-981C1E90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3748E3-8D56-4B3B-A851-908E6F5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AFB716-EC0C-4430-973D-208469C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A83972-98F0-4537-8EB2-F90B395F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D8A97B-264C-425F-B8CE-570EC9EB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CF2F0B-A7AC-45D9-B92A-62230706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33D3-7497-4B81-9283-66CA7768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A1B9BE-65E3-43EA-A9E3-9BE08EDE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1DAD64-B582-48EE-AA2B-8FF42967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8640C5-018B-4F65-A28D-511C8136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778AAD-D8BE-47EE-BA5C-8B84F79C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3341E3-D761-4502-B3E1-E5F2E90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BDFE4A-67D3-456B-9D83-A2B5421B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C0300C-5B8A-470A-837F-18948791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0EB894-4830-4DCB-8A14-54C249B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805FF5-3437-4D12-8DFD-A940D26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338D4F-ECFD-4E17-A421-E7BED3E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DB4EB-8F79-4200-8BDB-D0D4A588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1A2E71-87E4-48ED-86CA-71EEA8AB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073A1F-77A0-47C3-AAD2-03E2D0E5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A14A4A-09E3-4E01-892B-57909F79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2B6E-BAE2-4263-9472-C6050DDB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0A8D-F7EC-48F6-B6BF-3ADA868B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56C-3C4C-410D-88F3-D74F4ED2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29124-227A-49CF-BAB7-EFCE810C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B0841-1D88-42A8-AE57-67DB47D6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094C-AD5E-4C4D-9335-8BC89D90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64DE-BFF4-4989-A588-DA41615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41FC-5667-4076-9466-7CD5371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A447-C31B-484B-91D2-027EDFB9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4F40-1BAD-4C67-9D76-9A92EBB1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0F68-63F2-4BD4-812B-DD8848BC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D1B1-040B-4B6E-8802-A10A2D09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D9B5-2AC0-4F6D-885B-8519CC83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3AA-08D8-4A53-A547-878F624E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861B-46F3-49A1-96AF-8496FA4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0D785-DDBB-495F-87E3-6537D286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5D67-FF88-4A3B-B0D3-97399ADA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2CBB4-B392-47F8-A15A-7B13DC1F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587BE-613B-478C-86FE-D3477E29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1A34-A43C-4E21-BC69-61F27F7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6442-D420-45B4-93B4-9847DA69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F0C5-702A-4BA7-ADB6-839A7EDB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4363B-65DE-4D5C-8B5D-F5F55D95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498AA-7852-493A-A688-E756F124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83C-39AE-44FD-832C-5626EAD0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56078-3CDF-40AA-B434-5F31F4CC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8B31D-7F88-40CB-89C0-B54CF30F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147FD-626F-4D42-AE9A-CEE6C99D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0C7C1-CE98-46D4-8B77-72460A14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5C5C2-D50B-4239-A912-457E1A5C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C247-FF83-4DDA-8E35-8A9A2B66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70B9B-5A76-44DA-A7DF-0F2A0FBB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E06F-C5E3-46DD-BC4A-47F707D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DA41-93F7-4584-BB0C-305972E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5012-41A2-44C8-9D37-F6CA292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F62-2E34-49F8-B6EB-7783765F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BB109-0D56-423D-9CAF-78F6F402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037A4-5EE9-4E6E-B447-8CC4759B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7E525-7820-403F-8FB9-795F7C6C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5A086-83EE-44A5-A40D-344799FB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5B5C-457F-4F39-BD47-13AF377C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88EBD-4461-4DC8-AF72-9BBC0669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E872F-7DC1-4746-B589-58D18610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6C57-CE25-4B8A-A9F9-A536C0E6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0E66A-A4A8-4BAA-B9D4-501F0E35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CAC2F-A9BA-4BA4-9B4A-06E94FC2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483-5B3E-472F-B024-4675296F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124A9-52AB-43FB-837C-1A895308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EC075-C85A-4C6C-9445-90F41B12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A3426-52AE-4DAA-B445-9034145C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CDA9-87AB-40C7-A362-993CB1C8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B8F59-354A-451F-BFB7-0AD10692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E8A19-9256-46AB-84B5-D940FEED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2FC11-BC40-4725-8538-02758630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57EF4-980F-4718-8EAD-BA7B97AB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3EC27-4D0C-4C76-B04F-677816E5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54614-E33C-40A2-A95F-54BC50FC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928-C24E-44C1-87E5-8EE9E03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ADB37-0D80-426C-8F58-C96FA0A2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B738E-9B56-43E1-BF2E-CCC26B7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86D41-6E5E-495F-AC0E-DA2E6D8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AA5F0-F583-4DAF-A7CD-6590EF22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2B4DE-9F55-4275-AF1F-303E3DC3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D3F68-4A62-45A8-BAF0-07C375B0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71634-3D34-444D-BAA9-30EF363A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52E14-A5CE-4952-A4F6-DCAFDD04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42979-8B26-478B-A3AB-1C4411E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241F0-47C0-4C2D-8898-7ED10B01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953E-C753-4716-B8D4-58E0228C6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9015-877E-4149-84E4-64EA6BE73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8CCB-06FA-4CC8-82E3-7C54C1914C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FC46-9366-479C-B0FC-FCF87C291D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F85D-381C-4BAE-8746-BE3E752D9C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ACCE-47D5-4849-B124-FDECCAD7DB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F71E-A089-44DD-A120-B7AF42397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E737-4F5C-416D-ABC3-8D466DE17A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FAE2-CF5D-40D3-B4ED-37880DED3F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79B4-C9CC-48D6-B2AC-95BE55E15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FE36-0212-4A24-8D1A-6E7F591049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0A5E-3233-43F9-870D-DA761AAFE4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6112-3324-4DFD-9FE9-75D887432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8A7-44B2-42B9-8423-5D018FD81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E016-C27C-400D-8AC9-C5CD2828CB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60E-D195-4021-AC4A-3A01E759C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F457-536E-4B25-AFCF-749A6A64D4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746B-9433-4947-9591-5E7FA1E5AE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3870-1BC1-4BD6-B045-CBE6C4218D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D72A-C762-47C2-BE7F-18C6D1C32D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6441-65FD-410F-82E1-F817C1949C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9BE6-39B8-40E7-8D94-BD853C64AD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44E0-9400-4F9E-8698-DE526FF151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D0F1-09BB-46CF-9C52-5B71C65489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8310-C6AB-449B-8CC2-18D71A1E96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51D5-0FC3-420F-892C-CFB6039158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BA06-CAB2-47BC-8E2D-36C199D0E0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721F-E648-4DB9-A135-FE4DFB9E0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2EAB-8E5B-4850-B30E-E9246A9F4D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075-6069-4EC8-A126-17CFDE831C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DC58-A017-470E-82F1-F76CE8DB21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A3FF-CFDA-4B3F-BFFD-43EB0F480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9062-C4BF-4E8C-A2B6-29947C1DB8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615C-3E01-4D10-A93B-100AE2698C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ABA2-C648-4E8D-8AF4-E209E1971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91C7-8922-4387-8BC5-80F327059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D128-9E83-4F39-917C-8A677E4DE2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5D2D-AF7A-4B53-A096-282E489779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37B2-D7AB-4106-8BEF-924F6D3AA1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DD29-D094-4EF4-84C9-D0ED04CABE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EF14-DF9E-44C4-A37B-EDA4C5DE6A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F2FC-71CC-4F0E-A565-0BD9B1B9B3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63D2-AC1A-4E08-AC6E-441E39A4D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63F0-09AC-4CA9-BFF6-D4A408F027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1D42-AC3E-43AE-B878-E2B260ACCD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2092-25A2-4828-9079-DE4EEBF4AD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6DD5-29FC-4F76-B363-9D26843CE4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00B6-C23D-4068-A4E1-EFBB505303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603-10F5-4C44-BE3D-7470563423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AC81-46F8-4EA0-BCF1-1F7D5A7672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200320" y="2943360"/>
            <a:ext cx="4743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79873" descr=""/>
          <p:cNvPicPr/>
          <p:nvPr/>
        </p:nvPicPr>
        <p:blipFill>
          <a:blip r:embed="rId1"/>
          <a:stretch/>
        </p:blipFill>
        <p:spPr>
          <a:xfrm>
            <a:off x="552600" y="1495440"/>
            <a:ext cx="8038800" cy="3867120"/>
          </a:xfrm>
          <a:prstGeom prst="rect">
            <a:avLst/>
          </a:prstGeom>
          <a:ln w="0">
            <a:noFill/>
          </a:ln>
        </p:spPr>
      </p:pic>
      <p:sp>
        <p:nvSpPr>
          <p:cNvPr id="1471" name="矩形 79874"/>
          <p:cNvSpPr/>
          <p:nvPr/>
        </p:nvSpPr>
        <p:spPr>
          <a:xfrm>
            <a:off x="4716360" y="2565360"/>
            <a:ext cx="4320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79875"/>
          <p:cNvSpPr/>
          <p:nvPr/>
        </p:nvSpPr>
        <p:spPr>
          <a:xfrm>
            <a:off x="2554200" y="3051000"/>
            <a:ext cx="4320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78849" descr=""/>
          <p:cNvPicPr/>
          <p:nvPr/>
        </p:nvPicPr>
        <p:blipFill>
          <a:blip r:embed="rId1"/>
          <a:stretch/>
        </p:blipFill>
        <p:spPr>
          <a:xfrm>
            <a:off x="466560" y="2185920"/>
            <a:ext cx="8210880" cy="2486160"/>
          </a:xfrm>
          <a:prstGeom prst="rect">
            <a:avLst/>
          </a:prstGeom>
          <a:ln w="0">
            <a:noFill/>
          </a:ln>
        </p:spPr>
      </p:pic>
      <p:sp>
        <p:nvSpPr>
          <p:cNvPr id="1474" name="矩形 78850"/>
          <p:cNvSpPr/>
          <p:nvPr/>
        </p:nvSpPr>
        <p:spPr>
          <a:xfrm>
            <a:off x="1563840" y="3267000"/>
            <a:ext cx="431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78851"/>
          <p:cNvSpPr/>
          <p:nvPr/>
        </p:nvSpPr>
        <p:spPr>
          <a:xfrm>
            <a:off x="7307280" y="3781440"/>
            <a:ext cx="431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7782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91440" cy="5629320"/>
          </a:xfrm>
          <a:prstGeom prst="rect">
            <a:avLst/>
          </a:prstGeom>
          <a:ln w="0">
            <a:noFill/>
          </a:ln>
        </p:spPr>
      </p:pic>
      <p:sp>
        <p:nvSpPr>
          <p:cNvPr id="1477" name="矩形 77826"/>
          <p:cNvSpPr/>
          <p:nvPr/>
        </p:nvSpPr>
        <p:spPr>
          <a:xfrm>
            <a:off x="2725560" y="3429000"/>
            <a:ext cx="15591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77827"/>
          <p:cNvSpPr/>
          <p:nvPr/>
        </p:nvSpPr>
        <p:spPr>
          <a:xfrm>
            <a:off x="7736040" y="5000760"/>
            <a:ext cx="6523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76801" descr=""/>
          <p:cNvPicPr/>
          <p:nvPr/>
        </p:nvPicPr>
        <p:blipFill>
          <a:blip r:embed="rId1"/>
          <a:stretch/>
        </p:blipFill>
        <p:spPr>
          <a:xfrm>
            <a:off x="519120" y="880920"/>
            <a:ext cx="8105760" cy="50961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76802"/>
          <p:cNvSpPr/>
          <p:nvPr/>
        </p:nvSpPr>
        <p:spPr>
          <a:xfrm>
            <a:off x="3621240" y="1484280"/>
            <a:ext cx="11667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76803"/>
          <p:cNvSpPr/>
          <p:nvPr/>
        </p:nvSpPr>
        <p:spPr>
          <a:xfrm>
            <a:off x="4383000" y="2522520"/>
            <a:ext cx="11667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76804"/>
          <p:cNvSpPr/>
          <p:nvPr/>
        </p:nvSpPr>
        <p:spPr>
          <a:xfrm>
            <a:off x="1363680" y="5522760"/>
            <a:ext cx="11667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89090" descr=""/>
          <p:cNvPicPr/>
          <p:nvPr/>
        </p:nvPicPr>
        <p:blipFill>
          <a:blip r:embed="rId1"/>
          <a:stretch/>
        </p:blipFill>
        <p:spPr>
          <a:xfrm>
            <a:off x="471600" y="1247760"/>
            <a:ext cx="82008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90113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724520" cy="5648400"/>
          </a:xfrm>
          <a:prstGeom prst="rect">
            <a:avLst/>
          </a:prstGeom>
          <a:ln w="0">
            <a:noFill/>
          </a:ln>
        </p:spPr>
      </p:pic>
      <p:sp>
        <p:nvSpPr>
          <p:cNvPr id="1485" name="矩形 90114"/>
          <p:cNvSpPr/>
          <p:nvPr/>
        </p:nvSpPr>
        <p:spPr>
          <a:xfrm>
            <a:off x="5992920" y="876240"/>
            <a:ext cx="431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90116"/>
          <p:cNvSpPr/>
          <p:nvPr/>
        </p:nvSpPr>
        <p:spPr>
          <a:xfrm>
            <a:off x="3135240" y="1419120"/>
            <a:ext cx="4320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0117"/>
          <p:cNvSpPr/>
          <p:nvPr/>
        </p:nvSpPr>
        <p:spPr>
          <a:xfrm>
            <a:off x="3164040" y="2971800"/>
            <a:ext cx="431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90118"/>
          <p:cNvSpPr/>
          <p:nvPr/>
        </p:nvSpPr>
        <p:spPr>
          <a:xfrm>
            <a:off x="4659480" y="5013360"/>
            <a:ext cx="7761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90119"/>
          <p:cNvSpPr/>
          <p:nvPr/>
        </p:nvSpPr>
        <p:spPr>
          <a:xfrm>
            <a:off x="7230960" y="5527800"/>
            <a:ext cx="77652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324000" y="1433520"/>
            <a:ext cx="8496000" cy="39909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5003640" y="2205000"/>
            <a:ext cx="9399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88067"/>
          <p:cNvSpPr/>
          <p:nvPr/>
        </p:nvSpPr>
        <p:spPr>
          <a:xfrm>
            <a:off x="6588000" y="221472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8"/>
          <p:cNvSpPr/>
          <p:nvPr/>
        </p:nvSpPr>
        <p:spPr>
          <a:xfrm>
            <a:off x="3203640" y="262728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9"/>
          <p:cNvSpPr/>
          <p:nvPr/>
        </p:nvSpPr>
        <p:spPr>
          <a:xfrm>
            <a:off x="5796000" y="262728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70"/>
          <p:cNvSpPr/>
          <p:nvPr/>
        </p:nvSpPr>
        <p:spPr>
          <a:xfrm>
            <a:off x="6948360" y="260820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1"/>
          <p:cNvSpPr/>
          <p:nvPr/>
        </p:nvSpPr>
        <p:spPr>
          <a:xfrm>
            <a:off x="6919920" y="301788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2"/>
          <p:cNvSpPr/>
          <p:nvPr/>
        </p:nvSpPr>
        <p:spPr>
          <a:xfrm>
            <a:off x="995400" y="343692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3"/>
          <p:cNvSpPr/>
          <p:nvPr/>
        </p:nvSpPr>
        <p:spPr>
          <a:xfrm>
            <a:off x="766800" y="382752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4"/>
          <p:cNvSpPr/>
          <p:nvPr/>
        </p:nvSpPr>
        <p:spPr>
          <a:xfrm>
            <a:off x="3738600" y="383688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5"/>
          <p:cNvSpPr/>
          <p:nvPr/>
        </p:nvSpPr>
        <p:spPr>
          <a:xfrm>
            <a:off x="6843600" y="423720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6"/>
          <p:cNvSpPr/>
          <p:nvPr/>
        </p:nvSpPr>
        <p:spPr>
          <a:xfrm>
            <a:off x="1004760" y="463716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7"/>
          <p:cNvSpPr/>
          <p:nvPr/>
        </p:nvSpPr>
        <p:spPr>
          <a:xfrm>
            <a:off x="752400" y="505152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8079"/>
          <p:cNvSpPr/>
          <p:nvPr/>
        </p:nvSpPr>
        <p:spPr>
          <a:xfrm>
            <a:off x="4000680" y="5051520"/>
            <a:ext cx="5760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7041" descr=""/>
          <p:cNvPicPr/>
          <p:nvPr/>
        </p:nvPicPr>
        <p:blipFill>
          <a:blip r:embed="rId1"/>
          <a:stretch/>
        </p:blipFill>
        <p:spPr>
          <a:xfrm>
            <a:off x="328680" y="976320"/>
            <a:ext cx="8486640" cy="490536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7042"/>
          <p:cNvSpPr/>
          <p:nvPr/>
        </p:nvSpPr>
        <p:spPr>
          <a:xfrm>
            <a:off x="3276720" y="2627280"/>
            <a:ext cx="79992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7043"/>
          <p:cNvSpPr/>
          <p:nvPr/>
        </p:nvSpPr>
        <p:spPr>
          <a:xfrm>
            <a:off x="3324240" y="3013200"/>
            <a:ext cx="19652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7044"/>
          <p:cNvSpPr/>
          <p:nvPr/>
        </p:nvSpPr>
        <p:spPr>
          <a:xfrm>
            <a:off x="2781360" y="3422520"/>
            <a:ext cx="9270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7045"/>
          <p:cNvSpPr/>
          <p:nvPr/>
        </p:nvSpPr>
        <p:spPr>
          <a:xfrm>
            <a:off x="5648400" y="3413160"/>
            <a:ext cx="5079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7046"/>
          <p:cNvSpPr/>
          <p:nvPr/>
        </p:nvSpPr>
        <p:spPr>
          <a:xfrm>
            <a:off x="6296040" y="4727520"/>
            <a:ext cx="4366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86017" descr=""/>
          <p:cNvPicPr/>
          <p:nvPr/>
        </p:nvPicPr>
        <p:blipFill>
          <a:blip r:embed="rId1"/>
          <a:stretch/>
        </p:blipFill>
        <p:spPr>
          <a:xfrm>
            <a:off x="776160" y="2676600"/>
            <a:ext cx="7591680" cy="1504800"/>
          </a:xfrm>
          <a:prstGeom prst="rect">
            <a:avLst/>
          </a:prstGeom>
          <a:ln w="0">
            <a:noFill/>
          </a:ln>
        </p:spPr>
      </p:pic>
      <p:sp>
        <p:nvSpPr>
          <p:cNvPr id="1454" name="矩形 86018"/>
          <p:cNvSpPr/>
          <p:nvPr/>
        </p:nvSpPr>
        <p:spPr>
          <a:xfrm>
            <a:off x="1095480" y="3127320"/>
            <a:ext cx="15318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图片 86019" descr=""/>
          <p:cNvPicPr/>
          <p:nvPr/>
        </p:nvPicPr>
        <p:blipFill>
          <a:blip r:embed="rId2"/>
          <a:stretch/>
        </p:blipFill>
        <p:spPr>
          <a:xfrm>
            <a:off x="3924360" y="3068640"/>
            <a:ext cx="2200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84993" descr=""/>
          <p:cNvPicPr/>
          <p:nvPr/>
        </p:nvPicPr>
        <p:blipFill>
          <a:blip r:embed="rId1"/>
          <a:stretch/>
        </p:blipFill>
        <p:spPr>
          <a:xfrm>
            <a:off x="324000" y="800280"/>
            <a:ext cx="8496000" cy="5257800"/>
          </a:xfrm>
          <a:prstGeom prst="rect">
            <a:avLst/>
          </a:prstGeom>
          <a:ln w="0">
            <a:noFill/>
          </a:ln>
        </p:spPr>
      </p:pic>
      <p:sp>
        <p:nvSpPr>
          <p:cNvPr id="1457" name="矩形 84994"/>
          <p:cNvSpPr/>
          <p:nvPr/>
        </p:nvSpPr>
        <p:spPr>
          <a:xfrm>
            <a:off x="1847880" y="2532240"/>
            <a:ext cx="492120" cy="2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84995"/>
          <p:cNvSpPr/>
          <p:nvPr/>
        </p:nvSpPr>
        <p:spPr>
          <a:xfrm>
            <a:off x="5657760" y="2532240"/>
            <a:ext cx="492120" cy="2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84996"/>
          <p:cNvSpPr/>
          <p:nvPr/>
        </p:nvSpPr>
        <p:spPr>
          <a:xfrm>
            <a:off x="5067360" y="2913120"/>
            <a:ext cx="49212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84997"/>
          <p:cNvSpPr/>
          <p:nvPr/>
        </p:nvSpPr>
        <p:spPr>
          <a:xfrm>
            <a:off x="611280" y="4581360"/>
            <a:ext cx="17208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图片 84998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362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83969" descr=""/>
          <p:cNvPicPr/>
          <p:nvPr/>
        </p:nvPicPr>
        <p:blipFill>
          <a:blip r:embed="rId1"/>
          <a:stretch/>
        </p:blipFill>
        <p:spPr>
          <a:xfrm>
            <a:off x="495360" y="1176480"/>
            <a:ext cx="8153280" cy="4505040"/>
          </a:xfrm>
          <a:prstGeom prst="rect">
            <a:avLst/>
          </a:prstGeom>
          <a:ln w="0">
            <a:noFill/>
          </a:ln>
        </p:spPr>
      </p:pic>
      <p:sp>
        <p:nvSpPr>
          <p:cNvPr id="1463" name="矩形 83970"/>
          <p:cNvSpPr/>
          <p:nvPr/>
        </p:nvSpPr>
        <p:spPr>
          <a:xfrm>
            <a:off x="7821720" y="3381480"/>
            <a:ext cx="431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82945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86680" cy="6165720"/>
          </a:xfrm>
          <a:prstGeom prst="rect">
            <a:avLst/>
          </a:prstGeom>
          <a:ln w="0">
            <a:noFill/>
          </a:ln>
        </p:spPr>
      </p:pic>
      <p:sp>
        <p:nvSpPr>
          <p:cNvPr id="1465" name="矩形 82946"/>
          <p:cNvSpPr/>
          <p:nvPr/>
        </p:nvSpPr>
        <p:spPr>
          <a:xfrm>
            <a:off x="7812000" y="2708280"/>
            <a:ext cx="4320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81921" descr=""/>
          <p:cNvPicPr/>
          <p:nvPr/>
        </p:nvPicPr>
        <p:blipFill>
          <a:blip r:embed="rId1"/>
          <a:stretch/>
        </p:blipFill>
        <p:spPr>
          <a:xfrm>
            <a:off x="457200" y="1405080"/>
            <a:ext cx="8229600" cy="4047840"/>
          </a:xfrm>
          <a:prstGeom prst="rect">
            <a:avLst/>
          </a:prstGeom>
          <a:ln w="0">
            <a:noFill/>
          </a:ln>
        </p:spPr>
      </p:pic>
      <p:sp>
        <p:nvSpPr>
          <p:cNvPr id="1467" name="矩形 81922"/>
          <p:cNvSpPr/>
          <p:nvPr/>
        </p:nvSpPr>
        <p:spPr>
          <a:xfrm>
            <a:off x="7812000" y="2997360"/>
            <a:ext cx="4320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80897" descr=""/>
          <p:cNvPicPr/>
          <p:nvPr/>
        </p:nvPicPr>
        <p:blipFill>
          <a:blip r:embed="rId1"/>
          <a:stretch/>
        </p:blipFill>
        <p:spPr>
          <a:xfrm>
            <a:off x="528480" y="809640"/>
            <a:ext cx="8087040" cy="5238720"/>
          </a:xfrm>
          <a:prstGeom prst="rect">
            <a:avLst/>
          </a:prstGeom>
          <a:ln w="0">
            <a:noFill/>
          </a:ln>
        </p:spPr>
      </p:pic>
      <p:sp>
        <p:nvSpPr>
          <p:cNvPr id="1469" name="矩形 80898"/>
          <p:cNvSpPr/>
          <p:nvPr/>
        </p:nvSpPr>
        <p:spPr>
          <a:xfrm>
            <a:off x="7812000" y="3745080"/>
            <a:ext cx="4320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0:27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